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.jpeg" ContentType="image/jpeg"/>
  <Override PartName="/ppt/media/image25.png" ContentType="image/pn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C9F0-D4D0-471A-8D4C-FAB70F42E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730D-8BB5-43B7-AE11-41CA576B48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6A1C-5A36-4125-8A7F-DC4030BB0E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22EF-E474-4DD6-B98E-B546890592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02DA-5C62-417B-9CB1-EF58041A26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B90D-DB54-4A42-BA8D-F836E1A1EF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680-108C-49E9-B391-68C3116C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9FB-3F8B-4590-8274-1E35FD91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0AF-E69B-4794-99F9-36757B74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47C-C443-4D91-A0F0-6C8A42FC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D580-1828-467A-B0F2-31B01613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1A9E-6D85-4703-99FA-1659E6E3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222E-6B34-4FC2-A701-01ED39F6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FCCC-F094-4BC4-A0A3-A5488CEC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D1FF-7A97-4594-B18B-C7E7F779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B18F-5208-4FD1-BB65-C37EE38D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8822-DF7E-4B4E-8D7A-F32B9277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9E7-7ED9-46F6-A6C8-0FFFFC25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8BEB-51D9-4869-ACCF-53DEE1BE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8B94-A1F7-4451-B0E5-D030A564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5087-E774-4910-9003-DC703865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932C-B797-467A-BD47-0A533F66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BA4A-443F-41A5-B423-57F5EB4E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BA8-E022-4D72-BF58-4B03507F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7DD-CF67-4756-ADA3-056BB153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651-8367-437D-A0D1-3F156CBB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E2F-8DB4-4D1E-8BF2-B89B865B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839-6EEE-4A02-BF88-E29B55F1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3AA-62AF-4DEE-AFCC-E1D5E71C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9E5-BA48-4E1F-ABF8-AE804E1B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9841-766D-4DC7-947D-A7AA400CA26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113E-FDF2-43E9-8027-CC70D076141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2"/>
          <a:stretch/>
        </p:blipFill>
        <p:spPr>
          <a:xfrm>
            <a:off x="603360" y="755640"/>
            <a:ext cx="7785000" cy="1695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Book Antiqua"/>
              </a:rPr>
              <a:t>Mi </a:t>
            </a:r>
            <a:r>
              <a:rPr b="1" lang="en-US" sz="3200" spc="-1" strike="noStrike">
                <a:solidFill>
                  <a:srgbClr val="0d0d0d"/>
                </a:solidFill>
                <a:latin typeface="Aharoni"/>
                <a:ea typeface="Aharoni"/>
              </a:rPr>
              <a:t>nombre</a:t>
            </a:r>
            <a:r>
              <a:rPr b="1" lang="en-US" sz="3200" spc="-1" strike="noStrike">
                <a:solidFill>
                  <a:srgbClr val="0d0d0d"/>
                </a:solidFill>
                <a:latin typeface="Book Antiqua"/>
              </a:rPr>
              <a:t>: Alec Dal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990720" y="14479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 el desayuno me gusta comer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04920" y="2438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 Pl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á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a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2860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 toci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114800" y="2438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os hue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629400" y="2438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os bag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1295280" y="46483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 el desayuno me gusta beber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 jugo de naranj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1828800" y="29718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2" descr="bacon"/>
          <p:cNvPicPr/>
          <p:nvPr/>
        </p:nvPicPr>
        <p:blipFill>
          <a:blip r:embed="rId3"/>
          <a:stretch/>
        </p:blipFill>
        <p:spPr>
          <a:xfrm>
            <a:off x="1981080" y="28195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24"/>
          <p:cNvSpPr/>
          <p:nvPr/>
        </p:nvSpPr>
        <p:spPr>
          <a:xfrm>
            <a:off x="3343320" y="2500200"/>
            <a:ext cx="24573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6" descr="banana"/>
          <p:cNvPicPr/>
          <p:nvPr/>
        </p:nvPicPr>
        <p:blipFill>
          <a:blip r:embed="rId4"/>
          <a:stretch/>
        </p:blipFill>
        <p:spPr>
          <a:xfrm>
            <a:off x="0" y="2819520"/>
            <a:ext cx="1828800" cy="1869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8" descr="eggs"/>
          <p:cNvPicPr/>
          <p:nvPr/>
        </p:nvPicPr>
        <p:blipFill>
          <a:blip r:embed="rId5"/>
          <a:stretch/>
        </p:blipFill>
        <p:spPr>
          <a:xfrm>
            <a:off x="3962520" y="2743200"/>
            <a:ext cx="1981080" cy="19051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0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32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34" descr="42279-bagels"/>
          <p:cNvPicPr/>
          <p:nvPr/>
        </p:nvPicPr>
        <p:blipFill>
          <a:blip r:embed="rId6"/>
          <a:stretch/>
        </p:blipFill>
        <p:spPr>
          <a:xfrm>
            <a:off x="6400800" y="2819520"/>
            <a:ext cx="198108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3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3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0" descr="orange-juice-01"/>
          <p:cNvPicPr/>
          <p:nvPr/>
        </p:nvPicPr>
        <p:blipFill>
          <a:blip r:embed="rId7"/>
          <a:stretch/>
        </p:blipFill>
        <p:spPr>
          <a:xfrm>
            <a:off x="1905120" y="5029200"/>
            <a:ext cx="312408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380880" y="13716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 el almuerzo me gusta comer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2860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 bocadil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981080" y="22860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os nach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962520" y="2286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s patatas f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248520" y="2286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os pepinil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457200" y="46483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 el almuerzo me gusta beber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a leche con chocol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13" descr="ANd9GcTWciDaQ5eGU6-Groyd2pWW6wvuKOZHn6dW2Q7Ae9WOXHi10UF4QA"/>
          <p:cNvPicPr/>
          <p:nvPr/>
        </p:nvPicPr>
        <p:blipFill>
          <a:blip r:embed="rId3"/>
          <a:stretch/>
        </p:blipFill>
        <p:spPr>
          <a:xfrm>
            <a:off x="3505320" y="4962600"/>
            <a:ext cx="2133360" cy="18954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5"/>
          <p:cNvSpPr/>
          <p:nvPr/>
        </p:nvSpPr>
        <p:spPr>
          <a:xfrm>
            <a:off x="3357720" y="2490840"/>
            <a:ext cx="242856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3681360" y="2738520"/>
            <a:ext cx="178128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9"/>
          <p:cNvSpPr/>
          <p:nvPr/>
        </p:nvSpPr>
        <p:spPr>
          <a:xfrm>
            <a:off x="3681360" y="2738520"/>
            <a:ext cx="178128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1" descr="turkeysandwich"/>
          <p:cNvPicPr/>
          <p:nvPr/>
        </p:nvPicPr>
        <p:blipFill>
          <a:blip r:embed="rId4"/>
          <a:stretch/>
        </p:blipFill>
        <p:spPr>
          <a:xfrm>
            <a:off x="0" y="26668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23"/>
          <p:cNvSpPr/>
          <p:nvPr/>
        </p:nvSpPr>
        <p:spPr>
          <a:xfrm>
            <a:off x="3857760" y="2633760"/>
            <a:ext cx="14284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25"/>
          <p:cNvSpPr/>
          <p:nvPr/>
        </p:nvSpPr>
        <p:spPr>
          <a:xfrm>
            <a:off x="3857760" y="2633760"/>
            <a:ext cx="14284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7" descr="pickles1"/>
          <p:cNvPicPr/>
          <p:nvPr/>
        </p:nvPicPr>
        <p:blipFill>
          <a:blip r:embed="rId5"/>
          <a:stretch/>
        </p:blipFill>
        <p:spPr>
          <a:xfrm>
            <a:off x="6019920" y="2666880"/>
            <a:ext cx="1938240" cy="2133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9" descr="http://t2.gstatic.com/images?q=tbn:ANd9GcQmFFWe5FKHnlLw8VraRT6_i8_fxYENINuPmOnwR9SBiIxzyStkiA"/>
          <p:cNvPicPr/>
          <p:nvPr/>
        </p:nvPicPr>
        <p:blipFill>
          <a:blip r:embed="rId6"/>
          <a:stretch/>
        </p:blipFill>
        <p:spPr>
          <a:xfrm>
            <a:off x="1905120" y="281952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3" descr="http://t3.gstatic.com/images?q=tbn:ANd9GcRTrlYA8H2L6z0QOtPlpmmHTCu550-u1HGcklnsmIZGcZblhDQJkg"/>
          <p:cNvPicPr/>
          <p:nvPr/>
        </p:nvPicPr>
        <p:blipFill>
          <a:blip r:embed="rId7"/>
          <a:stretch/>
        </p:blipFill>
        <p:spPr>
          <a:xfrm>
            <a:off x="3809880" y="2590920"/>
            <a:ext cx="2171880" cy="21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380880" y="14479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 la cena me gusta comer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457200" y="45720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 la cena me gusta beber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a coca col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http://t0.gstatic.com/images?q=tbn:ANd9GcTMqULipmNkpZVOkAvLSEdt7GVsVP-sntwkxX8CSP5N1Tt299qS"/>
          <p:cNvPicPr/>
          <p:nvPr/>
        </p:nvPicPr>
        <p:blipFill>
          <a:blip r:embed="rId3"/>
          <a:stretch/>
        </p:blipFill>
        <p:spPr>
          <a:xfrm>
            <a:off x="4495680" y="4572000"/>
            <a:ext cx="1143000" cy="2286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380880" y="2209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a hamburgu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2514600" y="2209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s papas f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4572000" y="2209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sopa de almej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6858000" y="220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pan italia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http://t1.gstatic.com/images?q=tbn:ANd9GcR_SWVmSNYSuv4fwbpPVpi9oHR9sVQjzO5mSqm6lAxE-X0-TGD6Vg"/>
          <p:cNvPicPr/>
          <p:nvPr/>
        </p:nvPicPr>
        <p:blipFill>
          <a:blip r:embed="rId4"/>
          <a:stretch/>
        </p:blipFill>
        <p:spPr>
          <a:xfrm>
            <a:off x="6629400" y="2590920"/>
            <a:ext cx="2438280" cy="18856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12" descr="http://media-files.gather.com/images/d747/d625/d744/d224/d96/f3/full.jpg"/>
          <p:cNvPicPr/>
          <p:nvPr/>
        </p:nvPicPr>
        <p:blipFill>
          <a:blip r:embed="rId5"/>
          <a:stretch/>
        </p:blipFill>
        <p:spPr>
          <a:xfrm>
            <a:off x="4495680" y="2590920"/>
            <a:ext cx="2057400" cy="190476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16" descr="http://www.conservapedia.com/images/4/42/French_fries.jpg"/>
          <p:cNvPicPr/>
          <p:nvPr/>
        </p:nvPicPr>
        <p:blipFill>
          <a:blip r:embed="rId6"/>
          <a:stretch/>
        </p:blipFill>
        <p:spPr>
          <a:xfrm>
            <a:off x="2362320" y="2590920"/>
            <a:ext cx="2057400" cy="1876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http://www.knowledgerush.com/wiki_image/3/3b/Hamburger.jpg"/>
          <p:cNvPicPr/>
          <p:nvPr/>
        </p:nvPicPr>
        <p:blipFill>
          <a:blip r:embed="rId7"/>
          <a:stretch/>
        </p:blipFill>
        <p:spPr>
          <a:xfrm>
            <a:off x="228600" y="2590920"/>
            <a:ext cx="2057400" cy="19047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38088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 el postre me gusta comer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228600" y="2590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pudí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057400" y="2590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pastel de choco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4572000" y="2590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helado de vaini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7162920" y="2590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past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533520" y="4800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 el postre me gusta beber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lech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2" descr="http://www.cookiemadness.net/wp-content/uploads/2009/07/maya-chocolate-cream-pie.jpg"/>
          <p:cNvPicPr/>
          <p:nvPr/>
        </p:nvPicPr>
        <p:blipFill>
          <a:blip r:embed="rId3"/>
          <a:stretch/>
        </p:blipFill>
        <p:spPr>
          <a:xfrm>
            <a:off x="6781680" y="2971800"/>
            <a:ext cx="2133720" cy="1905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t1.gstatic.com/images?q=tbn:ANd9GcR7ja_1053356XeVS5eKonEiIRcVPHJJ_E15R3u3Zaw0JDTF9EV&amp;t=1"/>
          <p:cNvPicPr/>
          <p:nvPr/>
        </p:nvPicPr>
        <p:blipFill>
          <a:blip r:embed="rId4"/>
          <a:stretch/>
        </p:blipFill>
        <p:spPr>
          <a:xfrm>
            <a:off x="1905120" y="2971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http://nwamotherlode.com/wp-content/uploads/2011/01/ice-cream2.jpg"/>
          <p:cNvPicPr/>
          <p:nvPr/>
        </p:nvPicPr>
        <p:blipFill>
          <a:blip r:embed="rId5"/>
          <a:stretch/>
        </p:blipFill>
        <p:spPr>
          <a:xfrm>
            <a:off x="4648320" y="2971800"/>
            <a:ext cx="1881000" cy="1828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http://jedimarri.files.wordpress.com/2008/07/pudding.jpg"/>
          <p:cNvPicPr/>
          <p:nvPr/>
        </p:nvPicPr>
        <p:blipFill>
          <a:blip r:embed="rId6"/>
          <a:stretch/>
        </p:blipFill>
        <p:spPr>
          <a:xfrm>
            <a:off x="76320" y="297180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http://turbo.indyposted.com/wp-content/uploads/2010/12/Glass-of-Milk.jpg"/>
          <p:cNvPicPr/>
          <p:nvPr/>
        </p:nvPicPr>
        <p:blipFill>
          <a:blip r:embed="rId7"/>
          <a:stretch/>
        </p:blipFill>
        <p:spPr>
          <a:xfrm>
            <a:off x="2590920" y="5257800"/>
            <a:ext cx="1904760" cy="16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5:35Z</dcterms:created>
  <dc:creator>dalyale</dc:creator>
  <dc:description/>
  <dc:language>en-US</dc:language>
  <cp:lastModifiedBy>dalyale</cp:lastModifiedBy>
  <dcterms:modified xsi:type="dcterms:W3CDTF">2011-04-14T17:43:25Z</dcterms:modified>
  <cp:revision>9</cp:revision>
  <dc:subject/>
  <dc:title>Las Comidas</dc:title>
</cp:coreProperties>
</file>